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pic>
        <p:nvPicPr>
          <p:cNvPr id="1" name="Picture 7" descr="logo293 (positivo)"/>
          <p:cNvPicPr/>
          <p:nvPr/>
        </p:nvPicPr>
        <p:blipFill>
          <a:blip r:embed="rId2"/>
          <a:stretch/>
        </p:blipFill>
        <p:spPr>
          <a:xfrm>
            <a:off x="115920" y="76320"/>
            <a:ext cx="2038320" cy="649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6858000" y="15228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aaa"/>
                </a:solidFill>
                <a:latin typeface="DIN Regular"/>
              </a:rPr>
              <a:t>Vicerrectorado de Docencia y Estudiantes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762120"/>
            <a:ext cx="9144000" cy="22860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4" name="Text Box 22"/>
          <p:cNvSpPr/>
          <p:nvPr/>
        </p:nvSpPr>
        <p:spPr>
          <a:xfrm>
            <a:off x="2895480" y="152280"/>
            <a:ext cx="373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i4_0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43000" y="1066680"/>
            <a:ext cx="7085160" cy="5415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609480" y="1857240"/>
            <a:ext cx="83059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741"/>
                </a:solidFill>
                <a:latin typeface="DIN Regular"/>
              </a:rPr>
              <a:t>ACCESO A LAS ENSEÑANZAS DE GRADO Y LOS PROCEDIMIENTOS DE ADMISIÓN</a:t>
            </a:r>
            <a:endParaRPr b="1" lang="en-US" sz="48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600"/>
                </a:solidFill>
                <a:uFillTx/>
                <a:latin typeface="DIN Regular"/>
              </a:rPr>
              <a:t>ESTRUCTURA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3520" y="144792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DOS FASES INDEPENDIENT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00400" y="1981080"/>
            <a:ext cx="304812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FASE ESPECÍFICA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4495680" y="2514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124080" y="30481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Examen de materias de modalidad de 2º de bachillerato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429000" y="403848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57200" y="3581280"/>
            <a:ext cx="2819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El RD no restringe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DIN 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Ni en número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DIN 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Ni si han sido cursadas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8600" y="527040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DIN Regular"/>
              </a:rPr>
              <a:t>En el Distrito Universitario de Madrid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Se limitará a 4 el número de materias por convocatoria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4495680" y="43434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495680" y="4903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Distinta a la elegida en la Fase General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191120" y="5697360"/>
            <a:ext cx="4876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DIN 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Todos los ejercicios presentarán 2 opciones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DIN 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Tendrán la misma dificultad que en la Fase General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4495680" y="3429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114800" y="396252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TODA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5aaa"/>
                </a:solidFill>
                <a:uFillTx/>
                <a:latin typeface="Arial"/>
              </a:rPr>
              <a:t>CALIFICACIÓN EN CADA FASE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3520" y="144792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DOS FASES INDEPENDIENT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85800" y="1905120"/>
            <a:ext cx="304812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FASE GENERAL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20574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62120" y="2895480"/>
            <a:ext cx="198108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1º.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2º.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3º.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4º.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85800" y="4952880"/>
            <a:ext cx="6172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alificación de la Fase General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57200" y="5410080"/>
            <a:ext cx="83059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Madia aritmética de las calificacion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FG = 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Redondeada a la milésima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(3 cifras decimales)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2971800" y="297180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2971800" y="3505320"/>
            <a:ext cx="1219320" cy="304560"/>
          </a:xfrm>
          <a:prstGeom prst="rightArrow">
            <a:avLst>
              <a:gd name="adj1" fmla="val 50000"/>
              <a:gd name="adj2" fmla="val 1000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2971800" y="40384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2971800" y="4495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4724280" y="3124080"/>
            <a:ext cx="24386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ada ejercicio de 0 a 10 puntos con 2 cifras decimal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23880" y="6172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676520" y="5791320"/>
            <a:ext cx="312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1+C2+C3+C4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2286000" y="6172200"/>
            <a:ext cx="533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4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5aaa"/>
                </a:solidFill>
                <a:uFillTx/>
                <a:latin typeface="Arial"/>
              </a:rPr>
              <a:t>CALIFICACIÓN EN CADA FASE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1905120"/>
            <a:ext cx="403848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REQUISITO DE ACCESO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20574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85800" y="365760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Se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entenderá superad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57200" y="4191120"/>
            <a:ext cx="8305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60%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NMB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+ 40%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CFG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≥ 5 PUNTO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457200" y="3048120"/>
            <a:ext cx="601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Superar la prueba – Art. 38 LOE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685800" y="403848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UANDO: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6" name="AutoShape 20"/>
          <p:cNvSpPr/>
          <p:nvPr/>
        </p:nvSpPr>
        <p:spPr>
          <a:xfrm>
            <a:off x="3124080" y="4648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4648320" y="464832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2133720" y="5257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 2 decimales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3886200" y="5257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ínimo 4 puntos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6781680" y="4267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ondeada a milésima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5aaa"/>
                </a:solidFill>
                <a:uFillTx/>
                <a:latin typeface="Arial"/>
              </a:rPr>
              <a:t>CALIFICACIÓN EN CADA FASE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920" y="14479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MATERIAS FASE ESPECÍFICA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1828800" y="19810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57200" y="4114800"/>
            <a:ext cx="8305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Distrito de Madrid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85800" y="2604960"/>
            <a:ext cx="601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De 0 a 10 puntos con 2 cifras decimal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85800" y="30337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N Regular"/>
              </a:rPr>
              <a:t>Se consider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DIN Regular"/>
              </a:rPr>
              <a:t>superada la materia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N Regular"/>
              </a:rPr>
              <a:t>cuando obtiene calificació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5 punto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914400" y="4648320"/>
            <a:ext cx="541008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1 Materi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2 Materia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3 Materia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4 materia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2514600" y="4724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3048120" y="51814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2514600" y="51814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3581280" y="571500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3048120" y="57150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2514600" y="57150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4114800" y="62485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3581280" y="62485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3048120" y="62485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58" name="Rectangle 27"/>
          <p:cNvSpPr/>
          <p:nvPr/>
        </p:nvSpPr>
        <p:spPr>
          <a:xfrm>
            <a:off x="2514600" y="62485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5aaa"/>
                </a:solidFill>
                <a:uFillTx/>
                <a:latin typeface="Arial"/>
              </a:rPr>
              <a:t>CALIFICACIÓN EN CADA FASE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28600" y="2300400"/>
            <a:ext cx="8229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Proceso de revisión de las calificaciones obtenidas en los exámen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066680" y="332424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N Regular"/>
              </a:rPr>
              <a:t>Dos procedimiento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DIN Regular"/>
              </a:rPr>
              <a:t>Doble Corrección </a:t>
            </a:r>
            <a:r>
              <a:rPr b="1" lang="en-US" sz="24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IN Regular"/>
              </a:rPr>
              <a:t>ante el Presidente del Tribunal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DIN Regular"/>
              </a:rPr>
              <a:t>Reclamación </a:t>
            </a:r>
            <a:r>
              <a:rPr b="0" lang="en-US" sz="2400" spc="-1" strike="noStrike">
                <a:solidFill>
                  <a:srgbClr val="000000"/>
                </a:solidFill>
                <a:latin typeface="DIN Regular"/>
              </a:rPr>
              <a:t>ante la Comisión Organizadora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57200" y="1523880"/>
            <a:ext cx="32004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RECLAMACIONE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80880" y="5105520"/>
            <a:ext cx="8229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Comprueba: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- la evaluación de todas las cuestiones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- la correcta aplicación de los criterios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- no existan errores materiales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5aaa"/>
                </a:solidFill>
                <a:uFillTx/>
                <a:latin typeface="Arial"/>
              </a:rPr>
              <a:t>CALIFICACIÓN EN CADA FASE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28600" y="2300400"/>
            <a:ext cx="5029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Doble Corrección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57200" y="2895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N Regular"/>
              </a:rPr>
              <a:t>El examen vuelve a ser corregido por un profesor distinto              Nota: Media aritmética de las dos correcciones: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7200" y="1523880"/>
            <a:ext cx="32004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RECLAMACIONE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62520" y="3824280"/>
            <a:ext cx="1143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1+C2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267080" y="4281480"/>
            <a:ext cx="381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2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3809880" y="4267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85800" y="4876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N Regular"/>
              </a:rPr>
              <a:t>DIFERENCIA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2 puntos. Se procederá a una tercera corrección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oficio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733920" y="5576760"/>
            <a:ext cx="167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1+C2+C3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3733920" y="6019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343400" y="6033960"/>
            <a:ext cx="380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3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5aaa"/>
                </a:solidFill>
                <a:uFillTx/>
                <a:latin typeface="Arial"/>
              </a:rPr>
              <a:t>CALIFICACIÓN EN CADA FASE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300400"/>
            <a:ext cx="42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Resuelta la Doble Corrección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57200" y="1523880"/>
            <a:ext cx="32004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RECLAMACIONE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3048120" y="2743200"/>
            <a:ext cx="3200400" cy="99072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Publicación nueva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CALIFICACIÓN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3505320" y="3809880"/>
            <a:ext cx="609480" cy="152424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33520" y="4191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En el plazo de 3 días hábiles siguientes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4" name="AutoShape 19"/>
          <p:cNvSpPr/>
          <p:nvPr/>
        </p:nvSpPr>
        <p:spPr>
          <a:xfrm>
            <a:off x="5181480" y="3886200"/>
            <a:ext cx="609840" cy="1523880"/>
          </a:xfrm>
          <a:custGeom>
            <a:avLst/>
            <a:gdLst>
              <a:gd name="textAreaLeft" fmla="*/ 81720 w 609840"/>
              <a:gd name="textAreaRight" fmla="*/ 528120 w 60984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867280" y="4191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En el plazo de 5 días siguientes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457200" y="5133960"/>
            <a:ext cx="35812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PUEDE PRESENTAR RECLAMACIÓN ANTE LA COMISIÓN ORGANIZADOR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562720" y="5454720"/>
            <a:ext cx="3581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TIENE DERECHO A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VER 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EL EXAMEN CORREGID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22b29"/>
                </a:solidFill>
                <a:uFillTx/>
                <a:latin typeface="Arial"/>
              </a:rPr>
              <a:t>CONVOCATORIAS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28600" y="1981080"/>
            <a:ext cx="42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Se celebrarán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2 convocatoria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80880" y="4937040"/>
            <a:ext cx="4191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Matrícula: 25 y 26 May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04920" y="14479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ANUALMENTE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685800" y="236232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MADRID 2010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N Regular"/>
              </a:rPr>
              <a:t>(Pendiente de confirmación por la Comisión organizadora)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457200" y="3276720"/>
            <a:ext cx="3200400" cy="11430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Junio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7, 8 y 9 [10]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L M X J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52880" y="3276720"/>
            <a:ext cx="3200400" cy="121896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Septiembre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13, 14 y 15 [16]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L   M   X   J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477120" y="44956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1828800" y="44197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4952880" y="4952880"/>
            <a:ext cx="3886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Matrícula: 3 y 6 Sept.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380880" y="5334120"/>
            <a:ext cx="822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SIN LÍMITE DE CONVOCATORIA PARA MEJORAR CALIFICACIÓN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CFG  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DIN Regular"/>
              </a:rPr>
              <a:t>SIEMPRE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FG se repetirá en bloque: nueva elección)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CFE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9afa5"/>
                </a:solidFill>
                <a:uFillTx/>
                <a:latin typeface="Arial"/>
              </a:rPr>
              <a:t>HORARIOS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04920" y="137160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 Regular"/>
              </a:rPr>
              <a:t>(Pendiente de confirmación por la Comisión Organizadora)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920" y="1600200"/>
          <a:ext cx="8610480" cy="5019840"/>
        </p:xfrm>
        <a:graphic>
          <a:graphicData uri="http://schemas.openxmlformats.org/drawingml/2006/table">
            <a:tbl>
              <a:tblPr/>
              <a:tblGrid>
                <a:gridCol w="1407960"/>
                <a:gridCol w="1852560"/>
                <a:gridCol w="1755720"/>
                <a:gridCol w="1754280"/>
                <a:gridCol w="183996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Horari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Primer dí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Segundo dí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Tercer dí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Cuarto dí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10.00-11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11.30-12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12.15-13.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13.45-16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DIN Regular"/>
                        </a:rPr>
                        <a:t>16.30-18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2b2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300" spc="-1" strike="noStrike">
                        <a:solidFill>
                          <a:srgbClr val="000000"/>
                        </a:solidFill>
                        <a:latin typeface="DIN Regu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 Box 111"/>
          <p:cNvSpPr/>
          <p:nvPr/>
        </p:nvSpPr>
        <p:spPr>
          <a:xfrm>
            <a:off x="990720" y="6553080"/>
            <a:ext cx="73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e Gener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e Específica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05" name="Rectangle 112"/>
          <p:cNvSpPr/>
          <p:nvPr/>
        </p:nvSpPr>
        <p:spPr>
          <a:xfrm>
            <a:off x="2362320" y="6629400"/>
            <a:ext cx="228600" cy="228600"/>
          </a:xfrm>
          <a:prstGeom prst="rect">
            <a:avLst/>
          </a:prstGeom>
          <a:solidFill>
            <a:srgbClr val="00747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06" name="Rectangle 113"/>
          <p:cNvSpPr/>
          <p:nvPr/>
        </p:nvSpPr>
        <p:spPr>
          <a:xfrm>
            <a:off x="5257800" y="6629400"/>
            <a:ext cx="304920" cy="228600"/>
          </a:xfrm>
          <a:prstGeom prst="rect">
            <a:avLst/>
          </a:prstGeom>
          <a:solidFill>
            <a:srgbClr val="a22b2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07" name="9 CuadroTexto"/>
          <p:cNvSpPr/>
          <p:nvPr/>
        </p:nvSpPr>
        <p:spPr>
          <a:xfrm>
            <a:off x="1752480" y="1981080"/>
            <a:ext cx="1828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DIN Regular"/>
              </a:rPr>
              <a:t>er</a:t>
            </a: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. Ejercicio fase general: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 Regular"/>
              </a:rPr>
              <a:t>Comentario de un texto de Lengua Castellana y Literatura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08" name="10 CuadroTexto"/>
          <p:cNvSpPr/>
          <p:nvPr/>
        </p:nvSpPr>
        <p:spPr>
          <a:xfrm>
            <a:off x="3657600" y="2057400"/>
            <a:ext cx="16002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N Regular"/>
              </a:rPr>
              <a:t>4º. Ejercicio fase general: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 Regular"/>
              </a:rPr>
              <a:t>Materia de modalidad de 2º Bachillerato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09" name="11 CuadroTexto"/>
          <p:cNvSpPr/>
          <p:nvPr/>
        </p:nvSpPr>
        <p:spPr>
          <a:xfrm>
            <a:off x="5410080" y="1981080"/>
            <a:ext cx="16002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IN Regular"/>
              </a:rPr>
              <a:t>Materias de modalidad fase específica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Química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Tecnología Industrial II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Latín II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Economía de la Empresa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0" name="12 CuadroTexto"/>
          <p:cNvSpPr/>
          <p:nvPr/>
        </p:nvSpPr>
        <p:spPr>
          <a:xfrm>
            <a:off x="1752480" y="3276720"/>
            <a:ext cx="16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1" name="13 CuadroTexto"/>
          <p:cNvSpPr/>
          <p:nvPr/>
        </p:nvSpPr>
        <p:spPr>
          <a:xfrm>
            <a:off x="3657600" y="327672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2" name="14 CuadroTexto"/>
          <p:cNvSpPr/>
          <p:nvPr/>
        </p:nvSpPr>
        <p:spPr>
          <a:xfrm>
            <a:off x="5410080" y="327672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3" name="15 CuadroTexto"/>
          <p:cNvSpPr/>
          <p:nvPr/>
        </p:nvSpPr>
        <p:spPr>
          <a:xfrm>
            <a:off x="7162920" y="3276720"/>
            <a:ext cx="167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4" name="17 CuadroTexto"/>
          <p:cNvSpPr/>
          <p:nvPr/>
        </p:nvSpPr>
        <p:spPr>
          <a:xfrm>
            <a:off x="7162920" y="1981080"/>
            <a:ext cx="16002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Materias coincidentes fase específica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Incidencias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5" name="18 CuadroTexto"/>
          <p:cNvSpPr/>
          <p:nvPr/>
        </p:nvSpPr>
        <p:spPr>
          <a:xfrm>
            <a:off x="7238880" y="3657600"/>
            <a:ext cx="16002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Materias coincidentes fase específica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Incidencias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6" name="19 CuadroTexto"/>
          <p:cNvSpPr/>
          <p:nvPr/>
        </p:nvSpPr>
        <p:spPr>
          <a:xfrm>
            <a:off x="1828800" y="5105520"/>
            <a:ext cx="16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7" name="20 CuadroTexto"/>
          <p:cNvSpPr/>
          <p:nvPr/>
        </p:nvSpPr>
        <p:spPr>
          <a:xfrm>
            <a:off x="3581280" y="510552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8" name="21 CuadroTexto"/>
          <p:cNvSpPr/>
          <p:nvPr/>
        </p:nvSpPr>
        <p:spPr>
          <a:xfrm>
            <a:off x="7162920" y="5105520"/>
            <a:ext cx="167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19" name="22 CuadroTexto"/>
          <p:cNvSpPr/>
          <p:nvPr/>
        </p:nvSpPr>
        <p:spPr>
          <a:xfrm>
            <a:off x="5410080" y="510552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DESCANSO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0" name="23 CuadroTexto"/>
          <p:cNvSpPr/>
          <p:nvPr/>
        </p:nvSpPr>
        <p:spPr>
          <a:xfrm>
            <a:off x="1752480" y="3581280"/>
            <a:ext cx="1676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2º Ejercicio fase general: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 Regular"/>
              </a:rPr>
              <a:t>Historia de España o Historia de la Filosofía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1" name="24 CuadroTexto"/>
          <p:cNvSpPr/>
          <p:nvPr/>
        </p:nvSpPr>
        <p:spPr>
          <a:xfrm>
            <a:off x="1752480" y="5486400"/>
            <a:ext cx="16765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DIN Regular"/>
              </a:rPr>
              <a:t>er </a:t>
            </a:r>
            <a:r>
              <a:rPr b="1" lang="en-US" sz="1200" spc="-1" strike="noStrike">
                <a:solidFill>
                  <a:srgbClr val="000000"/>
                </a:solidFill>
                <a:latin typeface="DIN Regular"/>
              </a:rPr>
              <a:t> Ejercicio fase general: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DIN Regular"/>
              </a:rPr>
              <a:t>Lengua extranjera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2" name="25 CuadroTexto"/>
          <p:cNvSpPr/>
          <p:nvPr/>
        </p:nvSpPr>
        <p:spPr>
          <a:xfrm>
            <a:off x="3657600" y="3581280"/>
            <a:ext cx="160020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IN Regular"/>
              </a:rPr>
              <a:t>Materias de modalidad fase específica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DIN Regular"/>
              </a:rPr>
              <a:t>Historia del Arte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DIN Regular"/>
              </a:rPr>
              <a:t>Análisis musical II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DIN Regular"/>
              </a:rPr>
              <a:t>Biología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DIN Regular"/>
              </a:rPr>
              <a:t>Dibujo Técnico II</a:t>
            </a:r>
            <a:endParaRPr b="1" lang="en-US" sz="11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3" name="26 CuadroTexto"/>
          <p:cNvSpPr/>
          <p:nvPr/>
        </p:nvSpPr>
        <p:spPr>
          <a:xfrm>
            <a:off x="3657600" y="5410080"/>
            <a:ext cx="16765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IN Regular"/>
              </a:rPr>
              <a:t>Materias de modalidad fase específica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IN Regular"/>
              </a:rPr>
              <a:t>Diseño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IN Regular"/>
              </a:rPr>
              <a:t>CC. De la Tierra y M. Ambiente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IN Regular"/>
              </a:rPr>
              <a:t>Física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IN Regular"/>
              </a:rPr>
              <a:t>Matemáticas Aplicadas CCSSII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4" name="27 CuadroTexto"/>
          <p:cNvSpPr/>
          <p:nvPr/>
        </p:nvSpPr>
        <p:spPr>
          <a:xfrm>
            <a:off x="5410080" y="3505320"/>
            <a:ext cx="16002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IN Regular"/>
              </a:rPr>
              <a:t>Materias de modalidad fase específica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Dibujo Artístico II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Literatura Universal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Matemáticas II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Electrotecnia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 Regular"/>
              </a:rPr>
              <a:t>Historia de la Música y de la Danza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5" name="28 CuadroTexto"/>
          <p:cNvSpPr/>
          <p:nvPr/>
        </p:nvSpPr>
        <p:spPr>
          <a:xfrm>
            <a:off x="5410080" y="5425920"/>
            <a:ext cx="1600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DIN Regular"/>
              </a:rPr>
              <a:t>Materias coincidentes fase específica</a:t>
            </a:r>
            <a:endParaRPr b="1" lang="en-US" sz="1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DIN Regular"/>
              </a:rPr>
              <a:t>Técnicas de Expresión Gráf. Plás.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DIN Regular"/>
              </a:rPr>
              <a:t>Lenguaje y Práctica Musical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DIN Regular"/>
              </a:rPr>
              <a:t>Geografía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DIN Regular"/>
              </a:rPr>
              <a:t>Griego II</a:t>
            </a:r>
            <a:endParaRPr b="1" lang="en-US" sz="9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22b29"/>
                </a:solidFill>
                <a:uFillTx/>
                <a:latin typeface="Arial"/>
              </a:rPr>
              <a:t>CONVOCATORIAS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09680" y="3672000"/>
            <a:ext cx="4800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Se propone adelantar los proceso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286000" y="173664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2 POR AÑO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685800" y="2376360"/>
            <a:ext cx="75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ALENDARIO 2011 Y SIGUIENT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4343400" y="30481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200400" y="4440240"/>
            <a:ext cx="38862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JUNIO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(ordinaria)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JULIO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(extraordinaria)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2590920" y="5987880"/>
            <a:ext cx="44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En coordinación con las Enseñanzas Medias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NOVEDADES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8080" y="1905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N Regular"/>
              </a:rPr>
              <a:t>REAL DECRETO 1892/2008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28600" y="3733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471"/>
                </a:solidFill>
                <a:uFillTx/>
                <a:latin typeface="DIN Regular"/>
              </a:rPr>
              <a:t>REGULA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5105520"/>
            <a:ext cx="4648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PROCEDIMIENTOS DE ADMISIÓN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57200" y="4495680"/>
            <a:ext cx="5029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ONDICIONES DE ACCES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943600" y="4114800"/>
            <a:ext cx="3048120" cy="190512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71"/>
                </a:solidFill>
                <a:latin typeface="Arial"/>
              </a:rPr>
              <a:t>ENSEÑANZAS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71"/>
                </a:solidFill>
                <a:latin typeface="Arial"/>
              </a:rPr>
              <a:t>OFICIALES 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71"/>
                </a:solidFill>
                <a:latin typeface="Arial"/>
              </a:rPr>
              <a:t>DE GRADO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4800600" y="4419720"/>
            <a:ext cx="1143000" cy="533160"/>
          </a:xfrm>
          <a:prstGeom prst="rightArrow">
            <a:avLst>
              <a:gd name="adj1" fmla="val 50000"/>
              <a:gd name="adj2" fmla="val 535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4952880" y="50292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371600" y="1828800"/>
            <a:ext cx="2133720" cy="243828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FG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1º.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2º.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3º.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4º.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CFG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1371600" y="3733920"/>
            <a:ext cx="1676520" cy="0"/>
          </a:xfrm>
          <a:prstGeom prst="line">
            <a:avLst/>
          </a:prstGeom>
          <a:ln w="936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6248520" y="1828800"/>
            <a:ext cx="2133360" cy="243828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FE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6400800" y="23623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7162920" y="2514600"/>
            <a:ext cx="609480" cy="0"/>
          </a:xfrm>
          <a:prstGeom prst="line">
            <a:avLst/>
          </a:prstGeom>
          <a:ln w="1260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6400800" y="37339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6400800" y="3276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7162920" y="2971800"/>
            <a:ext cx="609480" cy="0"/>
          </a:xfrm>
          <a:prstGeom prst="line">
            <a:avLst/>
          </a:prstGeom>
          <a:ln w="1260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4" name="Line 20"/>
          <p:cNvSpPr/>
          <p:nvPr/>
        </p:nvSpPr>
        <p:spPr>
          <a:xfrm>
            <a:off x="7162920" y="3429000"/>
            <a:ext cx="609480" cy="0"/>
          </a:xfrm>
          <a:prstGeom prst="line">
            <a:avLst/>
          </a:prstGeom>
          <a:ln w="1260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7162920" y="3886200"/>
            <a:ext cx="609480" cy="0"/>
          </a:xfrm>
          <a:prstGeom prst="line">
            <a:avLst/>
          </a:prstGeom>
          <a:ln w="1260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2362320" y="47242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1295280" y="4281480"/>
            <a:ext cx="2438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Exp. Bachillerat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1219320" y="5278320"/>
            <a:ext cx="304776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NOTA DE ACCES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0,6NMB+0,4CFG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49" name="AutoShape 25"/>
          <p:cNvSpPr/>
          <p:nvPr/>
        </p:nvSpPr>
        <p:spPr>
          <a:xfrm>
            <a:off x="152280" y="1295280"/>
            <a:ext cx="762120" cy="2971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990720" y="1066680"/>
            <a:ext cx="8153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riterio de ordenación de las solicitudes: Nota de Admisión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1" name="AutoShape 27"/>
          <p:cNvSpPr/>
          <p:nvPr/>
        </p:nvSpPr>
        <p:spPr>
          <a:xfrm>
            <a:off x="7162920" y="441972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5715000" y="5103720"/>
            <a:ext cx="3048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Permite incrementar la nota de acceso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 (PARA COMPETIR)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33520" y="1828800"/>
            <a:ext cx="8076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omputan las materias examinadas en la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fase específic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609480" y="2209680"/>
            <a:ext cx="1981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SÓLO SI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990720" y="575928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Se elegirán las dos materias que otorguen mejor nota de admisión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MAYOR INCREMENTO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7" name="AutoShape 19"/>
          <p:cNvSpPr/>
          <p:nvPr/>
        </p:nvSpPr>
        <p:spPr>
          <a:xfrm>
            <a:off x="1828800" y="4952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457200" y="1295280"/>
            <a:ext cx="32004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NOTA DE ADMISIÓN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1066680" y="2743200"/>
            <a:ext cx="7696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- Ha sido superada con not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≥ 5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1066680" y="3276720"/>
            <a:ext cx="769644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DIN 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  <a:ea typeface="Arial"/>
              </a:rPr>
              <a:t>Está vinculada a la RAMA DE CONOCIMIENTO en que se inscribe el título de GRADO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  <a:ea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  <a:ea typeface="Arial"/>
              </a:rPr>
              <a:t>para el que solicitan admisión.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ANEXO I  RD. 1892/2008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11"/>
          <p:cNvSpPr/>
          <p:nvPr/>
        </p:nvSpPr>
        <p:spPr>
          <a:xfrm>
            <a:off x="7772400" y="3886200"/>
            <a:ext cx="533520" cy="457200"/>
          </a:xfrm>
          <a:prstGeom prst="ellipse">
            <a:avLst/>
          </a:prstGeom>
          <a:solidFill>
            <a:srgbClr val="a22b2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6629400" y="3886200"/>
            <a:ext cx="533520" cy="457200"/>
          </a:xfrm>
          <a:prstGeom prst="ellipse">
            <a:avLst/>
          </a:prstGeom>
          <a:solidFill>
            <a:srgbClr val="a22b2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3048120" y="3733920"/>
            <a:ext cx="29718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28600" y="5925960"/>
            <a:ext cx="8458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a y b = parámetros de ponderación entre 0,1 y 0,2 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M1, M2 = las dos calificaciones que otorguen mejor nota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200400" y="1143000"/>
            <a:ext cx="32004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NOTA DE ADMISIÓN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388620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Nota de admisión = 0,6 * NMB + 0,4 * CFG + a * M1 + b * M2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3429000" y="2590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Nota de acceso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6172200" y="24382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Nota materias Fase Específica (FE)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43400" y="3200400"/>
            <a:ext cx="0" cy="380880"/>
          </a:xfrm>
          <a:prstGeom prst="line">
            <a:avLst/>
          </a:prstGeom>
          <a:ln w="25560">
            <a:solidFill>
              <a:srgbClr val="00574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1" name="Line 16"/>
          <p:cNvSpPr/>
          <p:nvPr/>
        </p:nvSpPr>
        <p:spPr>
          <a:xfrm flipH="1">
            <a:off x="7238520" y="3352680"/>
            <a:ext cx="228600" cy="381240"/>
          </a:xfrm>
          <a:prstGeom prst="line">
            <a:avLst/>
          </a:prstGeom>
          <a:ln w="25560">
            <a:solidFill>
              <a:srgbClr val="0074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467480" y="3352680"/>
            <a:ext cx="304920" cy="381240"/>
          </a:xfrm>
          <a:prstGeom prst="line">
            <a:avLst/>
          </a:prstGeom>
          <a:ln w="25560">
            <a:solidFill>
              <a:srgbClr val="00574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02920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975" h="21600">
                <a:moveTo>
                  <a:pt x="1348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975" h="21600">
                <a:moveTo>
                  <a:pt x="10911" y="8224"/>
                </a:moveTo>
                <a:lnTo>
                  <a:pt x="14775" y="8224"/>
                </a:lnTo>
                <a:lnTo>
                  <a:pt x="14775" y="15221"/>
                </a:lnTo>
                <a:lnTo>
                  <a:pt x="16064" y="15221"/>
                </a:lnTo>
                <a:lnTo>
                  <a:pt x="16064" y="16144"/>
                </a:lnTo>
                <a:lnTo>
                  <a:pt x="10911" y="16144"/>
                </a:lnTo>
                <a:lnTo>
                  <a:pt x="10911" y="15221"/>
                </a:lnTo>
                <a:lnTo>
                  <a:pt x="12199" y="15221"/>
                </a:lnTo>
                <a:lnTo>
                  <a:pt x="12199" y="9129"/>
                </a:lnTo>
                <a:lnTo>
                  <a:pt x="10911" y="9129"/>
                </a:lnTo>
                <a:close/>
              </a:path>
            </a:pathLst>
          </a:custGeom>
          <a:solidFill>
            <a:srgbClr val="a22b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019920" y="480060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Acuerdo RUNAE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471"/>
                </a:solidFill>
                <a:latin typeface="DIN Regular"/>
              </a:rPr>
              <a:t>0,1</a:t>
            </a: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 ó </a:t>
            </a:r>
            <a:r>
              <a:rPr b="1" lang="en-US" sz="1800" spc="-1" strike="noStrike">
                <a:solidFill>
                  <a:srgbClr val="007471"/>
                </a:solidFill>
                <a:latin typeface="DIN Regular"/>
              </a:rPr>
              <a:t>0,2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533520" y="1828800"/>
            <a:ext cx="8076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7471"/>
              </a:buClr>
              <a:buFont typeface="DIN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El valor de los parámetros de ponderación es </a:t>
            </a:r>
            <a:r>
              <a:rPr b="1" lang="en-US" sz="2000" spc="-1" strike="noStrike">
                <a:solidFill>
                  <a:srgbClr val="007471"/>
                </a:solidFill>
                <a:latin typeface="DIN Regular"/>
              </a:rPr>
              <a:t>0,1</a:t>
            </a: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 si la asignatura está adscrita a la Rama de conocimiento del Grado al que se desea acceder, y </a:t>
            </a:r>
            <a:r>
              <a:rPr b="1" lang="en-US" sz="2000" spc="-1" strike="noStrike">
                <a:solidFill>
                  <a:srgbClr val="007471"/>
                </a:solidFill>
                <a:latin typeface="DIN Regular"/>
              </a:rPr>
              <a:t>0,0</a:t>
            </a: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 en caso contrario.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Las universidades pueden elevar el valor del parámetro </a:t>
            </a:r>
            <a:r>
              <a:rPr b="1" lang="en-US" sz="2000" spc="-1" strike="noStrike">
                <a:solidFill>
                  <a:srgbClr val="007471"/>
                </a:solidFill>
                <a:latin typeface="DIN Regular"/>
              </a:rPr>
              <a:t>0,1</a:t>
            </a: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 hasta </a:t>
            </a:r>
            <a:r>
              <a:rPr b="1" lang="en-US" sz="2000" spc="-1" strike="noStrike">
                <a:solidFill>
                  <a:srgbClr val="007471"/>
                </a:solidFill>
                <a:latin typeface="DIN Regular"/>
              </a:rPr>
              <a:t>0,2</a:t>
            </a: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57200" y="1295280"/>
            <a:ext cx="579132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PARÁMETROS DE PONDERACIÓN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533520" y="3429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7471"/>
              </a:buClr>
              <a:buFont typeface="DIN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La Red de Universidades Españolas (RUNAE) ha propuesto, para toda España, el uso único de los parámetros </a:t>
            </a:r>
            <a:r>
              <a:rPr b="1" lang="en-US" sz="2000" spc="-1" strike="noStrike">
                <a:solidFill>
                  <a:srgbClr val="007471"/>
                </a:solidFill>
                <a:latin typeface="DIN Regular"/>
              </a:rPr>
              <a:t>0,1</a:t>
            </a: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 y </a:t>
            </a:r>
            <a:r>
              <a:rPr b="1" lang="en-US" sz="2000" spc="-1" strike="noStrike">
                <a:solidFill>
                  <a:srgbClr val="007471"/>
                </a:solidFill>
                <a:latin typeface="DIN Regular"/>
              </a:rPr>
              <a:t>0,2</a:t>
            </a: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, sin valores intermedios.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533520" y="449568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7471"/>
              </a:buClr>
              <a:buFont typeface="DIN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La Comunidad de Madrid, a través de la Comisión Organizadora de las Pruebas, ha acordado aceptar esta propuesta. El acuerdo se hizo público en junio de este año.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33520" y="562284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7471"/>
              </a:buClr>
              <a:buFont typeface="DIN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IN Regular"/>
              </a:rPr>
              <a:t>Aplicación del acuerdo: los parámetros de ponderación concretos, para los grados ofertados por la Universidad de Alcalá, están publicados en la web.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371600"/>
            <a:ext cx="8076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57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Estudiantes que se examinen sólo de la fase general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09480" y="1828800"/>
            <a:ext cx="327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2f2e"/>
                </a:solidFill>
                <a:latin typeface="DIN Regular"/>
              </a:rPr>
              <a:t>NOTA MÍNIMA FG: 5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57200" y="46324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Máximo: [10*0,2] + [10*0,2] = 2+2 = 4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57200" y="990720"/>
            <a:ext cx="32004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NOTA DE ADMISIÓN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267080" y="1828800"/>
            <a:ext cx="3276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2f2e"/>
                </a:solidFill>
                <a:latin typeface="DIN Regular"/>
              </a:rPr>
              <a:t>NOTA MÁXIMA FG: 10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09480" y="2362320"/>
            <a:ext cx="8077320" cy="0"/>
          </a:xfrm>
          <a:prstGeom prst="line">
            <a:avLst/>
          </a:prstGeom>
          <a:ln w="57240">
            <a:solidFill>
              <a:srgbClr val="0057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33520" y="2438280"/>
            <a:ext cx="8076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57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Estudiantes que se examinen de la fase específic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380880" y="2909880"/>
            <a:ext cx="4724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INCREMENT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5715000" y="3962520"/>
            <a:ext cx="2514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a * M1 + b * M2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5715000" y="32004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 0,1 a 0,2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791320" y="48769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 5 a 10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562720" y="5181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 Regular"/>
              </a:rPr>
              <a:t>(una o dos materias)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5943600" y="3429000"/>
            <a:ext cx="838080" cy="609480"/>
          </a:xfrm>
          <a:prstGeom prst="line">
            <a:avLst/>
          </a:prstGeom>
          <a:ln w="28440">
            <a:solidFill>
              <a:srgbClr val="0074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6781680" y="3429000"/>
            <a:ext cx="228600" cy="533520"/>
          </a:xfrm>
          <a:prstGeom prst="line">
            <a:avLst/>
          </a:prstGeom>
          <a:ln w="28440">
            <a:solidFill>
              <a:srgbClr val="0057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6" name="Line 22"/>
          <p:cNvSpPr/>
          <p:nvPr/>
        </p:nvSpPr>
        <p:spPr>
          <a:xfrm flipH="1" flipV="1">
            <a:off x="6552720" y="4419720"/>
            <a:ext cx="304920" cy="457200"/>
          </a:xfrm>
          <a:prstGeom prst="line">
            <a:avLst/>
          </a:prstGeom>
          <a:ln w="28440">
            <a:solidFill>
              <a:srgbClr val="0057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7" name="Line 23"/>
          <p:cNvSpPr/>
          <p:nvPr/>
        </p:nvSpPr>
        <p:spPr>
          <a:xfrm flipV="1">
            <a:off x="6858000" y="4343400"/>
            <a:ext cx="609480" cy="533520"/>
          </a:xfrm>
          <a:prstGeom prst="line">
            <a:avLst/>
          </a:prstGeom>
          <a:ln w="28440">
            <a:solidFill>
              <a:srgbClr val="0057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609480" y="5791320"/>
            <a:ext cx="8077320" cy="0"/>
          </a:xfrm>
          <a:prstGeom prst="line">
            <a:avLst/>
          </a:prstGeom>
          <a:ln w="38160">
            <a:solidFill>
              <a:srgbClr val="0057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76320" y="6033960"/>
            <a:ext cx="4038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2f2e"/>
                </a:solidFill>
                <a:latin typeface="DIN Regular"/>
              </a:rPr>
              <a:t>NOTA MÍNIMA TOTAL: 5 (5+0)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4419720" y="6019920"/>
            <a:ext cx="4647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2f2e"/>
                </a:solidFill>
                <a:latin typeface="DIN Regular"/>
              </a:rPr>
              <a:t>NOTA MÁXIMA TOTAL: 14 (10+4)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380880" y="335268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Mínimo: 0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(si se obtiene una nota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5 en las dos materias examinadas o si no están vinculadas a la Rama de Conocimiento)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33520" y="2819520"/>
            <a:ext cx="3047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FASE ESPECÍFICA (FE)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(Materias examinadas)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962520" y="2971800"/>
            <a:ext cx="45720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CON FECHA DE CADUCIDAD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533520" y="4510080"/>
            <a:ext cx="8076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Válidas durante los dos cursos académicos posterior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1157400"/>
            <a:ext cx="3962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Las plazas se adjudican por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648320" y="1143000"/>
            <a:ext cx="320040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NOTA DE ADMISIÓN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80880" y="1828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- Título de bachiller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    0,6NMB+0,4CFG+aM1+bM2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380880" y="23004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DIN 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Título de técnico Superior/técnico Deportivo 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         NMC+aM1+bM2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cceso preferente a una Rama de Conocimiento)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380880" y="31845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- Con PAU superada en normativas anteriores 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          CDA+aM1+bM2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380880" y="3657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- Sistemas Educativos – Art. 38.5 LOE                  Calif. Credencial+aM1+bM2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57200" y="4267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 Regular"/>
              </a:rPr>
              <a:t>- Otros Sist. Educativos extranj.– PAU UNED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6NMB+0,4CFG+aM1+bM2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3048120" y="1981080"/>
            <a:ext cx="1828800" cy="0"/>
          </a:xfrm>
          <a:prstGeom prst="line">
            <a:avLst/>
          </a:prstGeom>
          <a:ln w="3816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5334120" y="3429000"/>
            <a:ext cx="1143000" cy="0"/>
          </a:xfrm>
          <a:prstGeom prst="line">
            <a:avLst/>
          </a:prstGeom>
          <a:ln w="3816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4419720" y="3809880"/>
            <a:ext cx="761760" cy="0"/>
          </a:xfrm>
          <a:prstGeom prst="line">
            <a:avLst/>
          </a:prstGeom>
          <a:ln w="3816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7" name="Line 35"/>
          <p:cNvSpPr/>
          <p:nvPr/>
        </p:nvSpPr>
        <p:spPr>
          <a:xfrm>
            <a:off x="4952880" y="4267080"/>
            <a:ext cx="228600" cy="0"/>
          </a:xfrm>
          <a:prstGeom prst="line">
            <a:avLst/>
          </a:prstGeom>
          <a:ln w="3816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457200" y="4572000"/>
            <a:ext cx="8077320" cy="0"/>
          </a:xfrm>
          <a:prstGeom prst="line">
            <a:avLst/>
          </a:prstGeom>
          <a:ln w="38160">
            <a:solidFill>
              <a:srgbClr val="0057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19" name="Text Box 37"/>
          <p:cNvSpPr/>
          <p:nvPr/>
        </p:nvSpPr>
        <p:spPr>
          <a:xfrm>
            <a:off x="609480" y="4952880"/>
            <a:ext cx="8001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DIN Regular"/>
              </a:rPr>
              <a:t>Cupos de Reserva – Comunidad de Madrid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741"/>
                </a:solidFill>
                <a:latin typeface="Wingdings"/>
                <a:ea typeface="Wingdings"/>
              </a:rPr>
              <a:t></a:t>
            </a:r>
            <a:r>
              <a:rPr b="1" lang="en-US" sz="1600" spc="-1" strike="noStrike">
                <a:solidFill>
                  <a:srgbClr val="005741"/>
                </a:solidFill>
                <a:latin typeface="DIN Regula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Mayores 25 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3 %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1800" spc="-1" strike="noStrike">
                <a:solidFill>
                  <a:srgbClr val="005741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ortist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% + 5% adicional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741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Mayores 40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1%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1800" spc="-1" strike="noStrike">
                <a:solidFill>
                  <a:srgbClr val="005741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apacitad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741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Mayores 45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1%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1800" spc="-1" strike="noStrike">
                <a:solidFill>
                  <a:srgbClr val="005741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ulados Universitari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6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20" name="Line 38"/>
          <p:cNvSpPr/>
          <p:nvPr/>
        </p:nvSpPr>
        <p:spPr>
          <a:xfrm>
            <a:off x="5181480" y="2514600"/>
            <a:ext cx="1219320" cy="0"/>
          </a:xfrm>
          <a:prstGeom prst="line">
            <a:avLst/>
          </a:prstGeom>
          <a:ln w="38160">
            <a:solidFill>
              <a:srgbClr val="007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09480" y="2666880"/>
            <a:ext cx="7391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Un estudiante puede tener varias notas de admisión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533520" y="4616280"/>
            <a:ext cx="8076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Dependiendo de hacia qué RAMA DE CONOCIMIENTO y GRADO dirige su solicitud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3657600" y="3124080"/>
            <a:ext cx="609480" cy="152424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666880" y="106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ACCESO Y ADMISIÓN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38080" y="1981080"/>
            <a:ext cx="739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RETO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905120" y="3081240"/>
            <a:ext cx="609588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747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Puesta en marcha del nuevo model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buClr>
                <a:srgbClr val="00747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Información y Orientación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buClr>
                <a:srgbClr val="00747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Toma de decision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>
              <a:spcBef>
                <a:spcPts val="1437"/>
              </a:spcBef>
              <a:buClr>
                <a:srgbClr val="00747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Resultados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si4_0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43000" y="1066680"/>
            <a:ext cx="7085160" cy="54151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609480" y="5958000"/>
            <a:ext cx="830592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741"/>
                </a:solidFill>
                <a:latin typeface="DIN Regular"/>
              </a:rPr>
              <a:t>FIN DE LA PRESENTACIÓN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R.D. 1892/2008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471"/>
                </a:solidFill>
                <a:uFillTx/>
                <a:latin typeface="DIN Regular"/>
              </a:rPr>
              <a:t>DEFINE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480" y="3657600"/>
            <a:ext cx="8382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LA ADMISIÓN (un procedimiento para regular el acceso)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590920"/>
            <a:ext cx="8305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LAS CONDICIONES PARA EL ACCESO (un derecho reconocido)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R.D. 1892/2008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DIN Regular"/>
              </a:rPr>
              <a:t>CONTEMPLA </a:t>
            </a:r>
            <a:r>
              <a:rPr b="1" lang="en-US" sz="2400" spc="-1" strike="noStrike" u="sng">
                <a:solidFill>
                  <a:srgbClr val="007471"/>
                </a:solidFill>
                <a:uFillTx/>
                <a:latin typeface="DIN Regular"/>
              </a:rPr>
              <a:t>10 PERFILES</a:t>
            </a:r>
            <a:r>
              <a:rPr b="1" lang="en-US" sz="2400" spc="-1" strike="noStrike">
                <a:solidFill>
                  <a:srgbClr val="007471"/>
                </a:solidFill>
                <a:latin typeface="DIN Regular"/>
              </a:rPr>
              <a:t> DE </a:t>
            </a:r>
            <a:r>
              <a:rPr b="1" lang="en-US" sz="2400" spc="-1" strike="noStrike" u="sng">
                <a:solidFill>
                  <a:srgbClr val="007471"/>
                </a:solidFill>
                <a:uFillTx/>
                <a:latin typeface="DIN Regular"/>
              </a:rPr>
              <a:t>ESTUDIANTES: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19051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Con Bachillerato LOE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346480"/>
            <a:ext cx="8305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Procedentes de Sistemas Educativo Extranjeros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Con título de Técnico Superior (FP y Enseñanzas Artísticas)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Con título de Técnico Deportivo Superior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Titulados universitarios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Con Estudios Universitarios Parciales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Cumplan requisitos de acceso según anteriores legislaciones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Personas mayores de 25 años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Personas mayores de 40 años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Personas mayores de 45 años.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R.D. 1892/2008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DIN Regular"/>
              </a:rPr>
              <a:t>CONTEMPLA </a:t>
            </a:r>
            <a:r>
              <a:rPr b="1" lang="en-US" sz="2400" spc="-1" strike="noStrike" u="sng">
                <a:solidFill>
                  <a:srgbClr val="007471"/>
                </a:solidFill>
                <a:uFillTx/>
                <a:latin typeface="DIN Regular"/>
              </a:rPr>
              <a:t>10 PERFILES</a:t>
            </a:r>
            <a:r>
              <a:rPr b="1" lang="en-US" sz="2400" spc="-1" strike="noStrike">
                <a:solidFill>
                  <a:srgbClr val="007471"/>
                </a:solidFill>
                <a:latin typeface="DIN Regular"/>
              </a:rPr>
              <a:t> DE </a:t>
            </a:r>
            <a:r>
              <a:rPr b="1" lang="en-US" sz="2400" spc="-1" strike="noStrike" u="sng">
                <a:solidFill>
                  <a:srgbClr val="007471"/>
                </a:solidFill>
                <a:uFillTx/>
                <a:latin typeface="DIN Regular"/>
              </a:rPr>
              <a:t>ESTUDIANTES: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33520" y="19051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5741"/>
              </a:buClr>
              <a:buFont typeface="DIN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Con Bachillerato LOE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R.D. 1892/2008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3352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471"/>
                </a:solidFill>
                <a:uFillTx/>
                <a:latin typeface="DIN Regular"/>
              </a:rPr>
              <a:t>LOE - REQUISITO DE ACCESO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752480" y="2362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 Regular"/>
              </a:rPr>
              <a:t>LOE / LOGSE / COU / PREU / TÍTULO EQUIVALENTE</a:t>
            </a:r>
            <a:endParaRPr b="1" lang="en-US" sz="20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3520" y="176688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ESTUDIANTES CON TÍTULO DE BACHILLER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143000" y="2286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09480" y="3048120"/>
            <a:ext cx="8305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SUPERAR UNA PRUEBA ÚNIC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743200" y="3657600"/>
            <a:ext cx="3048120" cy="129528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MADUREZ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CONOCIMIENTO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CAPACIDADE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85800" y="405288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VALORARÁ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143000" y="4648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85800" y="548640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Expresada con una CALIFICACIÓN NUMÉRICA que permita ordenar las solicitudes de admisión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 </a:t>
            </a:r>
            <a:r>
              <a:rPr b="1" lang="en-US" sz="2400" spc="-1" strike="noStrike">
                <a:solidFill>
                  <a:srgbClr val="8c2b89"/>
                </a:solidFill>
                <a:latin typeface="DIN Regular"/>
              </a:rPr>
              <a:t>RD 1892/2008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5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471"/>
                </a:solidFill>
                <a:uFillTx/>
                <a:latin typeface="DIN Regular"/>
              </a:rPr>
              <a:t>CAMBIOS MÁS RELEVANTES</a:t>
            </a:r>
            <a:endParaRPr b="1" lang="en-US" sz="2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199548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9600"/>
                </a:solidFill>
                <a:uFillTx/>
                <a:latin typeface="DIN Regular"/>
              </a:rPr>
              <a:t>ESTRUCTURA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: Fase General / Fase Específic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33520" y="350532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5aaa"/>
                </a:solidFill>
                <a:uFillTx/>
                <a:latin typeface="DIN Regular"/>
              </a:rPr>
              <a:t>CALIFICACIÓN EN CADA FASE: 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Independiente</a:t>
            </a:r>
            <a:r>
              <a:rPr b="1" lang="en-US" sz="2300" spc="-1" strike="noStrike">
                <a:solidFill>
                  <a:srgbClr val="005aaa"/>
                </a:solidFill>
                <a:latin typeface="DIN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33520" y="2757600"/>
            <a:ext cx="8305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9997"/>
                </a:solidFill>
                <a:uFillTx/>
                <a:latin typeface="DIN Regular"/>
              </a:rPr>
              <a:t>CONTENIDO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: Un número de ejercicios variable por alumn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520" y="428148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a22b29"/>
                </a:solidFill>
                <a:uFillTx/>
                <a:latin typeface="DIN Regular"/>
              </a:rPr>
              <a:t>CONVOCATORIAS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: Sin límite para superar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33520" y="5073480"/>
            <a:ext cx="8305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1040" indent="-1481040"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b9afa5"/>
                </a:solidFill>
                <a:uFillTx/>
                <a:latin typeface="DIN Regular"/>
              </a:rPr>
              <a:t>HORARIOS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: Todos los ejercicios son de hora y media, con un descanso de 45 minuto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600"/>
                </a:solidFill>
                <a:uFillTx/>
                <a:latin typeface="DIN Regular"/>
              </a:rPr>
              <a:t>ESTRUCTURA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33520" y="191916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DOS FASES INDEPENDIENT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85800" y="3352680"/>
            <a:ext cx="304812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FASE GENERAL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5105520" y="3352680"/>
            <a:ext cx="304776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FASE ESPECÍFICA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0948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Carácter Obligatorio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95288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 Regular"/>
              </a:rPr>
              <a:t>Carácter Voluntario</a:t>
            </a:r>
            <a:endParaRPr b="1" lang="en-US" sz="18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666880" y="10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b89"/>
                </a:solidFill>
                <a:latin typeface="DIN Regular"/>
              </a:rPr>
              <a:t>PAU</a:t>
            </a:r>
            <a:endParaRPr b="1" lang="en-US" sz="3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600"/>
                </a:solidFill>
                <a:uFillTx/>
                <a:latin typeface="DIN Regular"/>
              </a:rPr>
              <a:t>ESTRUCTURA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33520" y="1447920"/>
            <a:ext cx="8305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DOS FASES INDEPENDIENT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00400" y="1981080"/>
            <a:ext cx="304812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FASE GENERAL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4495680" y="2514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3276720" y="3200400"/>
            <a:ext cx="3047760" cy="457200"/>
          </a:xfrm>
          <a:prstGeom prst="rect">
            <a:avLst/>
          </a:prstGeom>
          <a:solidFill>
            <a:srgbClr val="e1c8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71"/>
                </a:solidFill>
                <a:latin typeface="Arial"/>
              </a:rPr>
              <a:t>4 EJERCICIOS</a:t>
            </a: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685800" y="3657600"/>
            <a:ext cx="83059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1º. Comentario Texto – Lengua Castellana y Literatur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2º. Materias comunes de 2º de bachillerat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3º. Lengua extranjera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4º. Materia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DIN Regular"/>
              </a:rPr>
              <a:t>de modalidad </a:t>
            </a: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de 2º de bachillerato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6553080" y="411480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781680" y="4114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a de la Filosofía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a de España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3962520" y="464832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4191120" y="4633920"/>
            <a:ext cx="39621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ensión </a:t>
            </a:r>
            <a:r>
              <a:rPr b="0" lang="en-US" sz="1400" spc="-1" strike="noStrike">
                <a:solidFill>
                  <a:srgbClr val="ff2f2e"/>
                </a:solidFill>
                <a:latin typeface="Arial"/>
              </a:rPr>
              <a:t>oral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y lectora</a:t>
            </a:r>
            <a:endParaRPr b="1" lang="en-US" sz="1400" spc="-1" strike="noStrike">
              <a:solidFill>
                <a:srgbClr val="000000"/>
              </a:solidFill>
              <a:latin typeface="DIN Regular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resión </a:t>
            </a:r>
            <a:r>
              <a:rPr b="0" lang="en-US" sz="1400" spc="-1" strike="noStrike">
                <a:solidFill>
                  <a:srgbClr val="ff2f2e"/>
                </a:solidFill>
                <a:latin typeface="Arial"/>
              </a:rPr>
              <a:t>oral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y escri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2f2e"/>
                </a:solidFill>
                <a:latin typeface="DIN Regular"/>
              </a:rPr>
              <a:t>*2012</a:t>
            </a:r>
            <a:endParaRPr b="1" lang="en-US" sz="1200" spc="-1" strike="noStrike">
              <a:solidFill>
                <a:srgbClr val="000000"/>
              </a:solidFill>
              <a:latin typeface="DIN Regular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609480" y="611028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N Regular"/>
              </a:rPr>
              <a:t>Cada uno de los ejercicios de esta fase presentará 2 opciones</a:t>
            </a:r>
            <a:endParaRPr b="1" lang="en-US" sz="2300" spc="-1" strike="noStrike">
              <a:solidFill>
                <a:srgbClr val="000000"/>
              </a:solidFill>
              <a:latin typeface="DIN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24:28Z</dcterms:created>
  <dc:creator>.</dc:creator>
  <dc:description/>
  <dc:language>en-US</dc:language>
  <cp:lastModifiedBy>Marisol Sanz</cp:lastModifiedBy>
  <dcterms:modified xsi:type="dcterms:W3CDTF">2009-12-17T17:06:15Z</dcterms:modified>
  <cp:revision>29</cp:revision>
  <dc:subject/>
  <dc:title>Diapositiva 1</dc:title>
</cp:coreProperties>
</file>